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gif" ContentType="image/gif"/>
  <Override PartName="/ppt/media/image6.jpeg" ContentType="image/jpeg"/>
  <Override PartName="/ppt/media/image8.png" ContentType="image/png"/>
  <Override PartName="/ppt/media/image11.jpeg" ContentType="image/jpeg"/>
  <Override PartName="/ppt/media/image5.jpeg" ContentType="image/jpeg"/>
  <Override PartName="/ppt/media/image10.jpeg" ContentType="image/jpe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2A6F-B667-473C-877A-9C54766BE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796B-28B3-43EE-8CAA-719AE932F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FF2B-02E6-4242-9E29-E6BD57261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B728-8932-4022-944E-6FD09B9F8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8497-D5F3-43A4-9718-D0AB821FE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2647-E2F3-47F9-82C5-55D246F36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A115-7C60-409A-A19F-60686E665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6E12-065F-4B03-B791-D428D042B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7EB5-80B5-4BC0-9249-AE9810588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AC79-2C52-4648-865D-123FEC27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A2E0-A97D-4CB0-A024-FCB68F58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226B-A78F-4335-824B-2A2EDFA8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47E71-E6EC-4E65-9E20-4C33BD8796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4.gif"/><Relationship Id="rId2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4.gif"/><Relationship Id="rId2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0920" y="47628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"/>
              </a:rPr>
              <a:t>人教版语文  三年级上册  第二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258920" y="1557360"/>
            <a:ext cx="720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两只胸脯是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粉红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的，一只胸脯是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深红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的。它们在树枝间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来回跳动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婉转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地歌唱，非常惹人喜爱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557800" y="1619280"/>
            <a:ext cx="492660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默读课文边读边用“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﹏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画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表现列宁喜爱灰雀的句子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词语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13280" y="47628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思考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403280" y="907920"/>
            <a:ext cx="669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列宁每次走到白桦树下，都要停下来，仰望这三只欢快的灰雀，经常给它们带来面包渣和谷粒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403280" y="907920"/>
            <a:ext cx="669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列宁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每次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走到白桦树下，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都要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停下来，仰望这三只欢快的灰雀，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经常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给它们带来面包渣和谷粒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61120" y="765000"/>
            <a:ext cx="5968800" cy="50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天 ，列宁又来到公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园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走到白桦树下，发现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胸脯深红的灰雀不见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在周围的树林中找遍了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也没有找到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72360" y="4726080"/>
            <a:ext cx="215640" cy="21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020000" y="4726080"/>
            <a:ext cx="216000" cy="21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66560" y="620640"/>
            <a:ext cx="7921800" cy="36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这时，列宁看见一个小男孩，就问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“孩子，你看见过一只深红色胸脯的灰雀吗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列宁说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“一定是飞走了或者是冻死了。天气严寒，它怕冷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列宁自言自语地说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“多好的灰雀呀，可惜再也飞不回来了。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列宁问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“会飞回来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19280" y="1125360"/>
            <a:ext cx="5977080" cy="3816360"/>
          </a:xfrm>
          <a:prstGeom prst="cloudCallout">
            <a:avLst>
              <a:gd name="adj1" fmla="val -39939"/>
              <a:gd name="adj2" fmla="val 794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四处找遍了也不见鸟儿的踪影，这时列宁说的每一句话都包含着什么样的心情呢？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再读，体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66560" y="620640"/>
            <a:ext cx="7921800" cy="36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这时，列宁看见一个小男孩，就问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“孩子，你看见过一只深红色胸脯的灰雀吗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列宁说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“一定是飞走了或者是冻死了。天气严寒，它怕冷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列宁自言自语地说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“多好的灰雀呀，可惜再也飞不回来了。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列宁问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“会飞回来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1" dur="1" fill="hold"/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828800" y="1981080"/>
            <a:ext cx="5715000" cy="2667240"/>
          </a:xfrm>
          <a:prstGeom prst="cloudCallout">
            <a:avLst>
              <a:gd name="adj1" fmla="val -24500"/>
              <a:gd name="adj2" fmla="val 891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聪明的孩子，有谁知道灰雀到底去了哪里了？你从课文哪儿看出来的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" y="1197000"/>
            <a:ext cx="821052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男孩说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“没……我没看见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男孩看着列宁，说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“会飞回来的，一定会飞回来的。它还活着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定会飞回来！”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男孩肯定地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0680000">
            <a:off x="1584360" y="4528800"/>
            <a:ext cx="5324400" cy="1781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627280" y="479736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这时候，小男孩在想什么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826920" y="1268280"/>
            <a:ext cx="7561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天，列宁来到白桦树下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果然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又看到那只灰雀欢蹦乱跳地在枝头歌唱。那个男孩站在白桦树旁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低着头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列宁看看男孩，又看看灰雀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微笑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着说：“你好！灰雀，昨天你到哪儿去了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然，灰雀没有告诉列宁昨天它去哪儿了。列宁也没再问那个男孩，因为他已经知道男孩是诚实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808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rcRect l="7691" t="4639" r="6209" b="14273"/>
          <a:stretch/>
        </p:blipFill>
        <p:spPr>
          <a:xfrm>
            <a:off x="5508720" y="3483000"/>
            <a:ext cx="3635280" cy="3375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79280" y="2349360"/>
            <a:ext cx="741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男孩一开始就说了谎话，为什么还说他是个诚实的孩子？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50920" y="549360"/>
            <a:ext cx="4826160" cy="1295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765000"/>
            <a:ext cx="398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最聪明，我知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836640"/>
            <a:ext cx="878508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白桦树    胸脯   婉转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面包渣    仰望   谷粒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诚实      肯定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郊外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或者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欢蹦乱跳  惹人喜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-1208160"/>
            <a:ext cx="4267080" cy="8066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列宁（</a:t>
            </a: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1870-1924</a:t>
            </a: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年）是全世界无产阶级的革命导师和领袖，马克思主义理论家，俄国共产党和苏维埃社会主义共和国的主要创建人。他出生在俄国伏尔加河边的辛比尔斯克。</a:t>
            </a:r>
            <a:br>
              <a:rPr sz="3600"/>
            </a:b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1924</a:t>
            </a: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年</a:t>
            </a: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月</a:t>
            </a: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21</a:t>
            </a: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日，因脑溢血去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liening4"/>
          <p:cNvPicPr/>
          <p:nvPr/>
        </p:nvPicPr>
        <p:blipFill>
          <a:blip r:embed="rId2"/>
          <a:stretch/>
        </p:blipFill>
        <p:spPr>
          <a:xfrm>
            <a:off x="4267080" y="0"/>
            <a:ext cx="4876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755640" y="1700280"/>
            <a:ext cx="8820000" cy="35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、练习分角色朗读课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、收集列宁或其他名人的故事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读一读，开展讲故事比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41600" y="404640"/>
            <a:ext cx="261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楷体_GB2312"/>
              </a:rPr>
              <a:t>课下作业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627280" y="2565360"/>
            <a:ext cx="5327640" cy="23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谢谢！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68360" y="1009800"/>
            <a:ext cx="9144000" cy="48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白</a:t>
            </a: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桦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树    </a:t>
            </a: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胸脯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婉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转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面包</a:t>
            </a: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渣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仰望   谷粒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诚实     肯定    郊外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者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惹人喜爱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欢蹦乱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-171360"/>
            <a:ext cx="9144000" cy="6858000"/>
            <a:chOff x="0" y="-171360"/>
            <a:chExt cx="9144000" cy="6858000"/>
          </a:xfrm>
        </p:grpSpPr>
        <p:grpSp>
          <p:nvGrpSpPr>
            <p:cNvPr id="48" name="Group 3"/>
            <p:cNvGrpSpPr/>
            <p:nvPr/>
          </p:nvGrpSpPr>
          <p:grpSpPr>
            <a:xfrm>
              <a:off x="0" y="-171360"/>
              <a:ext cx="1292400" cy="6858000"/>
              <a:chOff x="0" y="-171360"/>
              <a:chExt cx="1292400" cy="6858000"/>
            </a:xfrm>
          </p:grpSpPr>
          <p:pic>
            <p:nvPicPr>
              <p:cNvPr id="49" name="Picture 4" descr="8HANA1"/>
              <p:cNvPicPr/>
              <p:nvPr/>
            </p:nvPicPr>
            <p:blipFill>
              <a:blip r:embed="rId2"/>
              <a:stretch/>
            </p:blipFill>
            <p:spPr>
              <a:xfrm>
                <a:off x="0" y="-1713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" name="Picture 5" descr="8HANA1"/>
              <p:cNvPicPr/>
              <p:nvPr/>
            </p:nvPicPr>
            <p:blipFill>
              <a:blip r:embed="rId3"/>
              <a:stretch/>
            </p:blipFill>
            <p:spPr>
              <a:xfrm>
                <a:off x="0" y="8193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" name="Picture 6" descr="8HANA1"/>
              <p:cNvPicPr/>
              <p:nvPr/>
            </p:nvPicPr>
            <p:blipFill>
              <a:blip r:embed="rId4"/>
              <a:stretch/>
            </p:blipFill>
            <p:spPr>
              <a:xfrm>
                <a:off x="0" y="180972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Picture 7" descr="8HANA1"/>
              <p:cNvPicPr/>
              <p:nvPr/>
            </p:nvPicPr>
            <p:blipFill>
              <a:blip r:embed="rId5"/>
              <a:stretch/>
            </p:blipFill>
            <p:spPr>
              <a:xfrm>
                <a:off x="0" y="280044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Picture 8" descr="8HANA1"/>
              <p:cNvPicPr/>
              <p:nvPr/>
            </p:nvPicPr>
            <p:blipFill>
              <a:blip r:embed="rId6"/>
              <a:stretch/>
            </p:blipFill>
            <p:spPr>
              <a:xfrm>
                <a:off x="0" y="3791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Picture 9" descr="8HANA1"/>
              <p:cNvPicPr/>
              <p:nvPr/>
            </p:nvPicPr>
            <p:blipFill>
              <a:blip r:embed="rId7"/>
              <a:stretch/>
            </p:blipFill>
            <p:spPr>
              <a:xfrm>
                <a:off x="0" y="478152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Picture 10" descr="8HANA1"/>
              <p:cNvPicPr/>
              <p:nvPr/>
            </p:nvPicPr>
            <p:blipFill>
              <a:blip r:embed="rId8"/>
              <a:stretch/>
            </p:blipFill>
            <p:spPr>
              <a:xfrm>
                <a:off x="0" y="5635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" name="Group 11"/>
            <p:cNvGrpSpPr/>
            <p:nvPr/>
          </p:nvGrpSpPr>
          <p:grpSpPr>
            <a:xfrm>
              <a:off x="7851600" y="-171360"/>
              <a:ext cx="1292400" cy="6858000"/>
              <a:chOff x="7851600" y="-171360"/>
              <a:chExt cx="1292400" cy="6858000"/>
            </a:xfrm>
          </p:grpSpPr>
          <p:pic>
            <p:nvPicPr>
              <p:cNvPr id="57" name="Picture 12" descr="8HANA1"/>
              <p:cNvPicPr/>
              <p:nvPr/>
            </p:nvPicPr>
            <p:blipFill>
              <a:blip r:embed="rId9"/>
              <a:stretch/>
            </p:blipFill>
            <p:spPr>
              <a:xfrm>
                <a:off x="7851600" y="-1713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" name="Picture 13" descr="8HANA1"/>
              <p:cNvPicPr/>
              <p:nvPr/>
            </p:nvPicPr>
            <p:blipFill>
              <a:blip r:embed="rId10"/>
              <a:stretch/>
            </p:blipFill>
            <p:spPr>
              <a:xfrm>
                <a:off x="7851600" y="8193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Picture 14" descr="8HANA1"/>
              <p:cNvPicPr/>
              <p:nvPr/>
            </p:nvPicPr>
            <p:blipFill>
              <a:blip r:embed="rId11"/>
              <a:stretch/>
            </p:blipFill>
            <p:spPr>
              <a:xfrm>
                <a:off x="7851600" y="180972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" name="Picture 15" descr="8HANA1"/>
              <p:cNvPicPr/>
              <p:nvPr/>
            </p:nvPicPr>
            <p:blipFill>
              <a:blip r:embed="rId12"/>
              <a:stretch/>
            </p:blipFill>
            <p:spPr>
              <a:xfrm>
                <a:off x="7851600" y="280044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" name="Picture 16" descr="8HANA1"/>
              <p:cNvPicPr/>
              <p:nvPr/>
            </p:nvPicPr>
            <p:blipFill>
              <a:blip r:embed="rId13"/>
              <a:stretch/>
            </p:blipFill>
            <p:spPr>
              <a:xfrm>
                <a:off x="7851600" y="3791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" name="Picture 17" descr="8HANA1"/>
              <p:cNvPicPr/>
              <p:nvPr/>
            </p:nvPicPr>
            <p:blipFill>
              <a:blip r:embed="rId14"/>
              <a:stretch/>
            </p:blipFill>
            <p:spPr>
              <a:xfrm>
                <a:off x="7851600" y="478152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" name="Picture 18" descr="8HANA1"/>
              <p:cNvPicPr/>
              <p:nvPr/>
            </p:nvPicPr>
            <p:blipFill>
              <a:blip r:embed="rId15"/>
              <a:stretch/>
            </p:blipFill>
            <p:spPr>
              <a:xfrm>
                <a:off x="7851600" y="5635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4" name="Picture 19" descr="8HANA1"/>
            <p:cNvPicPr/>
            <p:nvPr/>
          </p:nvPicPr>
          <p:blipFill>
            <a:blip r:embed="rId16"/>
            <a:stretch/>
          </p:blipFill>
          <p:spPr>
            <a:xfrm>
              <a:off x="1219320" y="563580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20" descr="8HANA1"/>
            <p:cNvPicPr/>
            <p:nvPr/>
          </p:nvPicPr>
          <p:blipFill>
            <a:blip r:embed="rId17"/>
            <a:stretch/>
          </p:blipFill>
          <p:spPr>
            <a:xfrm>
              <a:off x="2514600" y="563580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21" descr="8HANA1"/>
            <p:cNvPicPr/>
            <p:nvPr/>
          </p:nvPicPr>
          <p:blipFill>
            <a:blip r:embed="rId18"/>
            <a:stretch/>
          </p:blipFill>
          <p:spPr>
            <a:xfrm>
              <a:off x="3733920" y="563580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22" descr="8HANA1"/>
            <p:cNvPicPr/>
            <p:nvPr/>
          </p:nvPicPr>
          <p:blipFill>
            <a:blip r:embed="rId19"/>
            <a:stretch/>
          </p:blipFill>
          <p:spPr>
            <a:xfrm>
              <a:off x="4952880" y="563580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23" descr="8HANA1"/>
            <p:cNvPicPr/>
            <p:nvPr/>
          </p:nvPicPr>
          <p:blipFill>
            <a:blip r:embed="rId20"/>
            <a:stretch/>
          </p:blipFill>
          <p:spPr>
            <a:xfrm>
              <a:off x="6172200" y="563580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Picture 24" descr="8HANA1"/>
            <p:cNvPicPr/>
            <p:nvPr/>
          </p:nvPicPr>
          <p:blipFill>
            <a:blip r:embed="rId21"/>
            <a:stretch/>
          </p:blipFill>
          <p:spPr>
            <a:xfrm>
              <a:off x="2438280" y="-1713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Picture 25" descr="8HANA1"/>
            <p:cNvPicPr/>
            <p:nvPr/>
          </p:nvPicPr>
          <p:blipFill>
            <a:blip r:embed="rId22"/>
            <a:stretch/>
          </p:blipFill>
          <p:spPr>
            <a:xfrm>
              <a:off x="1219320" y="-1713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26" descr="8HANA1"/>
            <p:cNvPicPr/>
            <p:nvPr/>
          </p:nvPicPr>
          <p:blipFill>
            <a:blip r:embed="rId23"/>
            <a:stretch/>
          </p:blipFill>
          <p:spPr>
            <a:xfrm>
              <a:off x="7238880" y="-1713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27" descr="8HANA1"/>
            <p:cNvPicPr/>
            <p:nvPr/>
          </p:nvPicPr>
          <p:blipFill>
            <a:blip r:embed="rId24"/>
            <a:stretch/>
          </p:blipFill>
          <p:spPr>
            <a:xfrm>
              <a:off x="3657600" y="-1713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Picture 28" descr="8HANA1"/>
            <p:cNvPicPr/>
            <p:nvPr/>
          </p:nvPicPr>
          <p:blipFill>
            <a:blip r:embed="rId25"/>
            <a:stretch/>
          </p:blipFill>
          <p:spPr>
            <a:xfrm>
              <a:off x="4876920" y="-1713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29" descr="8HANA1"/>
            <p:cNvPicPr/>
            <p:nvPr/>
          </p:nvPicPr>
          <p:blipFill>
            <a:blip r:embed="rId26"/>
            <a:stretch/>
          </p:blipFill>
          <p:spPr>
            <a:xfrm>
              <a:off x="6095880" y="-1713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30" descr="8HANA1"/>
            <p:cNvPicPr/>
            <p:nvPr/>
          </p:nvPicPr>
          <p:blipFill>
            <a:blip r:embed="rId27"/>
            <a:stretch/>
          </p:blipFill>
          <p:spPr>
            <a:xfrm>
              <a:off x="7315200" y="5635800"/>
              <a:ext cx="1292400" cy="1050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6" name="Picture 31" descr="book9"/>
          <p:cNvPicPr/>
          <p:nvPr/>
        </p:nvPicPr>
        <p:blipFill>
          <a:blip r:embed="rId28"/>
          <a:stretch/>
        </p:blipFill>
        <p:spPr>
          <a:xfrm>
            <a:off x="685800" y="304920"/>
            <a:ext cx="1523880" cy="12618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2"/>
          <p:cNvSpPr/>
          <p:nvPr/>
        </p:nvSpPr>
        <p:spPr>
          <a:xfrm>
            <a:off x="2058840" y="6858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华文琥珀"/>
              </a:rPr>
              <a:t>我会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32000" y="1700280"/>
            <a:ext cx="7499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郊    散    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脯    渣    低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敢    惜    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0" name="Group 3"/>
            <p:cNvGrpSpPr/>
            <p:nvPr/>
          </p:nvGrpSpPr>
          <p:grpSpPr>
            <a:xfrm>
              <a:off x="0" y="0"/>
              <a:ext cx="1292400" cy="6858000"/>
              <a:chOff x="0" y="0"/>
              <a:chExt cx="1292400" cy="6858000"/>
            </a:xfrm>
          </p:grpSpPr>
          <p:pic>
            <p:nvPicPr>
              <p:cNvPr id="81" name="Picture 4" descr="8HANA1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Picture 5" descr="8HANA1"/>
              <p:cNvPicPr/>
              <p:nvPr/>
            </p:nvPicPr>
            <p:blipFill>
              <a:blip r:embed="rId3"/>
              <a:stretch/>
            </p:blipFill>
            <p:spPr>
              <a:xfrm>
                <a:off x="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Picture 6" descr="8HANA1"/>
              <p:cNvPicPr/>
              <p:nvPr/>
            </p:nvPicPr>
            <p:blipFill>
              <a:blip r:embed="rId4"/>
              <a:stretch/>
            </p:blipFill>
            <p:spPr>
              <a:xfrm>
                <a:off x="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Picture 7" descr="8HANA1"/>
              <p:cNvPicPr/>
              <p:nvPr/>
            </p:nvPicPr>
            <p:blipFill>
              <a:blip r:embed="rId5"/>
              <a:stretch/>
            </p:blipFill>
            <p:spPr>
              <a:xfrm>
                <a:off x="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Picture 8" descr="8HANA1"/>
              <p:cNvPicPr/>
              <p:nvPr/>
            </p:nvPicPr>
            <p:blipFill>
              <a:blip r:embed="rId6"/>
              <a:stretch/>
            </p:blipFill>
            <p:spPr>
              <a:xfrm>
                <a:off x="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" name="Picture 9" descr="8HANA1"/>
              <p:cNvPicPr/>
              <p:nvPr/>
            </p:nvPicPr>
            <p:blipFill>
              <a:blip r:embed="rId7"/>
              <a:stretch/>
            </p:blipFill>
            <p:spPr>
              <a:xfrm>
                <a:off x="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" name="Picture 10" descr="8HANA1"/>
              <p:cNvPicPr/>
              <p:nvPr/>
            </p:nvPicPr>
            <p:blipFill>
              <a:blip r:embed="rId8"/>
              <a:stretch/>
            </p:blipFill>
            <p:spPr>
              <a:xfrm>
                <a:off x="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8" name="Group 11"/>
            <p:cNvGrpSpPr/>
            <p:nvPr/>
          </p:nvGrpSpPr>
          <p:grpSpPr>
            <a:xfrm>
              <a:off x="7851600" y="0"/>
              <a:ext cx="1292400" cy="6858000"/>
              <a:chOff x="7851600" y="0"/>
              <a:chExt cx="1292400" cy="6858000"/>
            </a:xfrm>
          </p:grpSpPr>
          <p:pic>
            <p:nvPicPr>
              <p:cNvPr id="89" name="Picture 12" descr="8HANA1"/>
              <p:cNvPicPr/>
              <p:nvPr/>
            </p:nvPicPr>
            <p:blipFill>
              <a:blip r:embed="rId9"/>
              <a:stretch/>
            </p:blipFill>
            <p:spPr>
              <a:xfrm>
                <a:off x="785160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Picture 13" descr="8HANA1"/>
              <p:cNvPicPr/>
              <p:nvPr/>
            </p:nvPicPr>
            <p:blipFill>
              <a:blip r:embed="rId10"/>
              <a:stretch/>
            </p:blipFill>
            <p:spPr>
              <a:xfrm>
                <a:off x="785160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Picture 14" descr="8HANA1"/>
              <p:cNvPicPr/>
              <p:nvPr/>
            </p:nvPicPr>
            <p:blipFill>
              <a:blip r:embed="rId11"/>
              <a:stretch/>
            </p:blipFill>
            <p:spPr>
              <a:xfrm>
                <a:off x="785160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Picture 15" descr="8HANA1"/>
              <p:cNvPicPr/>
              <p:nvPr/>
            </p:nvPicPr>
            <p:blipFill>
              <a:blip r:embed="rId12"/>
              <a:stretch/>
            </p:blipFill>
            <p:spPr>
              <a:xfrm>
                <a:off x="785160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Picture 16" descr="8HANA1"/>
              <p:cNvPicPr/>
              <p:nvPr/>
            </p:nvPicPr>
            <p:blipFill>
              <a:blip r:embed="rId13"/>
              <a:stretch/>
            </p:blipFill>
            <p:spPr>
              <a:xfrm>
                <a:off x="785160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Picture 17" descr="8HANA1"/>
              <p:cNvPicPr/>
              <p:nvPr/>
            </p:nvPicPr>
            <p:blipFill>
              <a:blip r:embed="rId14"/>
              <a:stretch/>
            </p:blipFill>
            <p:spPr>
              <a:xfrm>
                <a:off x="785160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5" name="Picture 18" descr="8HANA1"/>
              <p:cNvPicPr/>
              <p:nvPr/>
            </p:nvPicPr>
            <p:blipFill>
              <a:blip r:embed="rId15"/>
              <a:stretch/>
            </p:blipFill>
            <p:spPr>
              <a:xfrm>
                <a:off x="785160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96" name="Picture 19" descr="8HANA1"/>
            <p:cNvPicPr/>
            <p:nvPr/>
          </p:nvPicPr>
          <p:blipFill>
            <a:blip r:embed="rId16"/>
            <a:stretch/>
          </p:blipFill>
          <p:spPr>
            <a:xfrm>
              <a:off x="12193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Picture 20" descr="8HANA1"/>
            <p:cNvPicPr/>
            <p:nvPr/>
          </p:nvPicPr>
          <p:blipFill>
            <a:blip r:embed="rId17"/>
            <a:stretch/>
          </p:blipFill>
          <p:spPr>
            <a:xfrm>
              <a:off x="25146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21" descr="8HANA1"/>
            <p:cNvPicPr/>
            <p:nvPr/>
          </p:nvPicPr>
          <p:blipFill>
            <a:blip r:embed="rId18"/>
            <a:stretch/>
          </p:blipFill>
          <p:spPr>
            <a:xfrm>
              <a:off x="37339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22" descr="8HANA1"/>
            <p:cNvPicPr/>
            <p:nvPr/>
          </p:nvPicPr>
          <p:blipFill>
            <a:blip r:embed="rId19"/>
            <a:stretch/>
          </p:blipFill>
          <p:spPr>
            <a:xfrm>
              <a:off x="495288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23" descr="8HANA1"/>
            <p:cNvPicPr/>
            <p:nvPr/>
          </p:nvPicPr>
          <p:blipFill>
            <a:blip r:embed="rId20"/>
            <a:stretch/>
          </p:blipFill>
          <p:spPr>
            <a:xfrm>
              <a:off x="6172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24" descr="8HANA1"/>
            <p:cNvPicPr/>
            <p:nvPr/>
          </p:nvPicPr>
          <p:blipFill>
            <a:blip r:embed="rId21"/>
            <a:stretch/>
          </p:blipFill>
          <p:spPr>
            <a:xfrm>
              <a:off x="24382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25" descr="8HANA1"/>
            <p:cNvPicPr/>
            <p:nvPr/>
          </p:nvPicPr>
          <p:blipFill>
            <a:blip r:embed="rId22"/>
            <a:stretch/>
          </p:blipFill>
          <p:spPr>
            <a:xfrm>
              <a:off x="12193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26" descr="8HANA1"/>
            <p:cNvPicPr/>
            <p:nvPr/>
          </p:nvPicPr>
          <p:blipFill>
            <a:blip r:embed="rId23"/>
            <a:stretch/>
          </p:blipFill>
          <p:spPr>
            <a:xfrm>
              <a:off x="7238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27" descr="8HANA1"/>
            <p:cNvPicPr/>
            <p:nvPr/>
          </p:nvPicPr>
          <p:blipFill>
            <a:blip r:embed="rId24"/>
            <a:stretch/>
          </p:blipFill>
          <p:spPr>
            <a:xfrm>
              <a:off x="365760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28" descr="8HANA1"/>
            <p:cNvPicPr/>
            <p:nvPr/>
          </p:nvPicPr>
          <p:blipFill>
            <a:blip r:embed="rId25"/>
            <a:stretch/>
          </p:blipFill>
          <p:spPr>
            <a:xfrm>
              <a:off x="48769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29" descr="8HANA1"/>
            <p:cNvPicPr/>
            <p:nvPr/>
          </p:nvPicPr>
          <p:blipFill>
            <a:blip r:embed="rId26"/>
            <a:stretch/>
          </p:blipFill>
          <p:spPr>
            <a:xfrm>
              <a:off x="6095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30" descr="8HANA1"/>
            <p:cNvPicPr/>
            <p:nvPr/>
          </p:nvPicPr>
          <p:blipFill>
            <a:blip r:embed="rId27"/>
            <a:stretch/>
          </p:blipFill>
          <p:spPr>
            <a:xfrm>
              <a:off x="7315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8" name="Picture 31" descr="book9"/>
          <p:cNvPicPr/>
          <p:nvPr/>
        </p:nvPicPr>
        <p:blipFill>
          <a:blip r:embed="rId28"/>
          <a:stretch/>
        </p:blipFill>
        <p:spPr>
          <a:xfrm>
            <a:off x="685800" y="304920"/>
            <a:ext cx="1523880" cy="12618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2"/>
          <p:cNvSpPr/>
          <p:nvPr/>
        </p:nvSpPr>
        <p:spPr>
          <a:xfrm>
            <a:off x="2058840" y="6858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00"/>
                </a:solidFill>
                <a:latin typeface="Calibri"/>
                <a:ea typeface="华文琥珀"/>
              </a:rPr>
              <a:t>我会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057400" y="1295280"/>
          <a:ext cx="4952880" cy="447048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22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1872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18720">
                      <a:solidFill>
                        <a:srgbClr val="bbe0e3"/>
                      </a:solidFill>
                    </a:lnR>
                    <a:lnT w="1872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  <a:tr h="22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1872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1872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18720">
                      <a:solidFill>
                        <a:srgbClr val="bbe0e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Text Box 44"/>
          <p:cNvSpPr/>
          <p:nvPr/>
        </p:nvSpPr>
        <p:spPr>
          <a:xfrm>
            <a:off x="3373560" y="129240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Calibri"/>
                <a:ea typeface="楷体_GB2312"/>
              </a:rPr>
              <a:t>惜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00000" y="1916280"/>
            <a:ext cx="74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由朗读课文，注意读准字音读通句子，思考：课文讲了一件什么事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3300"/>
                </a:solidFill>
                <a:latin typeface="Arial"/>
                <a:ea typeface="楷体_GB2312"/>
              </a:rPr>
              <a:t>我知道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60960" y="2308320"/>
            <a:ext cx="6136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课文讲述的是（      ）、（      ）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 ）之间的故事 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067280" y="227664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列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57720" y="227664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男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20160" y="3029040"/>
            <a:ext cx="114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灰雀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rcRect l="102" t="3556" r="0" b="0"/>
          <a:stretch/>
        </p:blipFill>
        <p:spPr>
          <a:xfrm>
            <a:off x="250920" y="0"/>
            <a:ext cx="4105080" cy="4076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5219640" y="333360"/>
            <a:ext cx="3313080" cy="3456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846520" y="4437000"/>
            <a:ext cx="2619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轻声读课文第一段用“</a:t>
            </a:r>
            <a:r>
              <a:rPr b="0" lang="zh-CN" sz="4800" spc="-1" strike="noStrike">
                <a:solidFill>
                  <a:srgbClr val="000000"/>
                </a:solidFill>
                <a:latin typeface="宋体"/>
                <a:ea typeface="楷体_GB2312"/>
              </a:rPr>
              <a:t>—”画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宋体"/>
                <a:ea typeface="楷体_GB2312"/>
              </a:rPr>
              <a:t>描写灰雀的句子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258920" y="1557360"/>
            <a:ext cx="72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两只胸脯是粉红的，一只胸脯是深红的。它们在树枝间来回跳动，婉转地歌唱，非常惹人喜爱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11:49:08Z</dcterms:created>
  <dc:creator>微软用户</dc:creator>
  <dc:description/>
  <dc:language>en-US</dc:language>
  <cp:lastModifiedBy>Administrator</cp:lastModifiedBy>
  <dcterms:modified xsi:type="dcterms:W3CDTF">2016-06-12T06:40:29Z</dcterms:modified>
  <cp:revision>51</cp:revision>
  <dc:subject/>
  <dc:title>幻灯片 1</dc:title>
</cp:coreProperties>
</file>